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18BCE-8EFD-4BC6-BAD3-FBDAA24777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5D815-FA99-41E0-ACDF-5636C3039D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44E96-E9D6-4BD1-A4D8-615A52D921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078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078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078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078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0078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0078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0078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0078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0078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078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1"/>
          <p:cNvSpPr/>
          <p:nvPr/>
        </p:nvSpPr>
        <p:spPr>
          <a:xfrm>
            <a:off x="0" y="0"/>
            <a:ext cx="5486400" cy="914400"/>
          </a:xfrm>
          <a:prstGeom prst="rect">
            <a:avLst/>
          </a:prstGeom>
          <a:solidFill>
            <a:srgbClr val="daa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9" descr="6835_powerpoint_v2"/>
          <p:cNvPicPr/>
          <p:nvPr/>
        </p:nvPicPr>
        <p:blipFill>
          <a:blip r:embed="rId2"/>
          <a:stretch/>
        </p:blipFill>
        <p:spPr>
          <a:xfrm>
            <a:off x="0" y="0"/>
            <a:ext cx="9155160" cy="1065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logos-joint-bw-lowres.jpg"/>
          <p:cNvPicPr/>
          <p:nvPr/>
        </p:nvPicPr>
        <p:blipFill>
          <a:blip r:embed="rId3"/>
          <a:stretch/>
        </p:blipFill>
        <p:spPr>
          <a:xfrm>
            <a:off x="5638680" y="228600"/>
            <a:ext cx="2876760" cy="72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5497560" y="5319720"/>
            <a:ext cx="3646440" cy="16146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3" descr="FOED Logo"/>
          <p:cNvPicPr/>
          <p:nvPr/>
        </p:nvPicPr>
        <p:blipFill>
          <a:blip r:embed="rId4"/>
          <a:stretch/>
        </p:blipFill>
        <p:spPr>
          <a:xfrm>
            <a:off x="7010280" y="5943600"/>
            <a:ext cx="1859040" cy="6048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Literacy in the Social Scienc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0 October 201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tudent knowledge needed to access tex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ding immigration laws requires knowledge of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migration his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ld geograph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litical the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ltural stud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themat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onstructing knowledge through using …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fferent genres (narrative, expository, poetics, music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fferent symbol systems (print, graphics, tabl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fferent semiotic tools (image, sound, performanc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je, 200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he importance of discussion around texts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udent achievement in comprehension and critical thinking improves when there is classroom discussion around a tex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is some evidence that students transfer their comprehension and learning abilities to new texts and new contex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 algn="r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urphy, Wilkinson &amp; Soter, 201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hallenges with subject specific literacy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o teachers have a deep understanding of the knowledge producing practices of their disciplin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re some students resistant to subject specific literacy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s the role of new media in subject specific literacy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school structures need to change to enable teachers to support students to navigate subject specific literacy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8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je, 200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Learning intentions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develop an understanding of subject specific literacy in the Social Scien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model a process for sharing subject specific literacy with teachers and middle leaders in the Social Scien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Why is literacy important?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country’s literacy scores rising by 1% relative to the international average is associated with an eventual 2.5% relative rise in labour productivity and a 1.5% rise in GDP per hea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ulombe &amp; Tremblay, 200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What is subject specific literacy?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ong early reading skills do not automatically develop into more complex skills that enable students to deal with the specialised and sophisticated reading in specific learning area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ecialised literacy instruction needed for all students (not just those who score below the mean in literacy measures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hanahan &amp; Shanahan (2008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Intellectual values of a discipline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different reading processes are related to the intellectual values of a learning are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storians emphasise paying attention to the author or source before reading a tex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thematicians stress the importance of functional words such as “the” and “a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What are the intellectual values of your subject?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ch learning area has specific literacy demands involving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ecialist and academic vocabula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ypes of tex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ys of thinking, evaluating and respond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thods of communica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ventions, styles, struc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hat are the aspects of literacy in each learning area?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trategy instruction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 strategies are appropriate in subject speciifc literacy but they are actualised different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.g. The approach to vocabulary is different in English and Geograph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Do students understand the differences in literacy across the learning areas?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udents need to know how literacy requirements are different from learning area to learning are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.g. an essay in English values personal response whereas an essay in Gepgraphy values …, an essay in History values …, an essay in Accounting values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he importance of critiquing the tex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Civilised Community: A history of Social Security in NZ 1898-199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ritten by Margaret McCl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shed in 199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nded by Dept of Internal Affai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9T18:04:35Z</dcterms:created>
  <dc:creator>Studio 4</dc:creator>
  <dc:description/>
  <dc:language>en-US</dc:language>
  <cp:lastModifiedBy>Irene Andersen</cp:lastModifiedBy>
  <dcterms:modified xsi:type="dcterms:W3CDTF">2012-10-29T19:02:06Z</dcterms:modified>
  <cp:revision>30</cp:revision>
  <dc:subject/>
  <dc:title>PowerPoint Presentation</dc:title>
</cp:coreProperties>
</file>